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C26C-BC40-4008-8A86-16D560F4F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9082-2FFC-4E1F-B782-21420735A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9630-F481-4813-8C58-6DE77B99D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33EB-2C8A-4DA2-958B-736DE9E62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C497-5FB0-4BD5-B0DC-3214CBB9B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2ACD-F129-4C8F-9D34-644D2E519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D0F-F28B-4F22-8502-0E1DA6D1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9BC-DDA3-4E70-BDB2-60D9278E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52D-3037-4F5D-80A8-B72C0E25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243-1270-46FE-AB21-4E711ADB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AB2-7F3E-4B87-BC15-16F17122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7F3-9576-4CAD-857E-BA04A251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522-105A-48A5-8D5D-D058DBD5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1E2-7EE7-44DC-89EA-1E47DFB3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16B-4ADC-45EE-AC44-9445D36A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50B-27B2-4B2E-9AAF-E6D2D02E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EB7-8435-4DB4-B297-085A1C08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420-54ED-488D-BF6C-E6E7EED0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FE18-05AC-489E-97F8-9902823B3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21301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AREA APLICA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ŢIILOR DISTRIBU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5400" y="1500120"/>
            <a:ext cx="69152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SESIUNEA DE COMUNICĂRI ŞTIINŢ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786120" y="571500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orin Lucian P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Procesul de test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Aplicaţie on-line cu blocuri de mat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Test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mpiric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white-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unitar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Analiză comparat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luz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Aplicaţii distribu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Blocuri de mat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alcul matric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Test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softw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Interfaţ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Module de calc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Module de afiş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Calibri"/>
              </a:rPr>
              <a:t>Autentificare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70080" y="785880"/>
            <a:ext cx="67309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2:53:39Z</dcterms:created>
  <dc:creator>Sorin Pavel </dc:creator>
  <dc:description/>
  <dc:language>en-US</dc:language>
  <cp:lastModifiedBy>Sorin Pavel </cp:lastModifiedBy>
  <dcterms:modified xsi:type="dcterms:W3CDTF">2008-04-17T13:33:56Z</dcterms:modified>
  <cp:revision>9</cp:revision>
  <dc:subject/>
  <dc:title>Testarea aplicaţiilor distribuite</dc:title>
</cp:coreProperties>
</file>